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628-51A0-4BB6-8FFC-8B9FBD84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283-F0C1-4C19-9043-3F3AE3D7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DE6-3006-4B0A-8B93-DC0B04B6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DF5-119C-406B-A74D-40E2AAD5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6C5-9FEA-414F-8500-2CA9B34C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07E-6450-43EA-9AC8-7DE8F23D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12AB-1114-40E7-867A-6B3487C8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353-00FF-4F7D-98DD-0979BBC6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F28-E4B8-446F-B336-107D8785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2A1-B215-405A-94E7-AE4549A4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26A-C1CE-42CC-9905-C5B5D481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B9A-ECAE-4206-A783-8AE61E43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A7E7-3760-4930-83FB-11D673D2F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LOGGER!!!G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20:50:37Z</dcterms:created>
  <dc:creator>Nga Frederiksen</dc:creator>
  <dc:description/>
  <dc:language>en-US</dc:language>
  <cp:lastModifiedBy>Nga Frederiksen</cp:lastModifiedBy>
  <dcterms:modified xsi:type="dcterms:W3CDTF">2010-08-04T20:52:43Z</dcterms:modified>
  <cp:revision>2</cp:revision>
  <dc:subject/>
  <dc:title>Slide 1</dc:title>
</cp:coreProperties>
</file>